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0FCB9-13F0-495D-825C-65794A5F432A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C40CA-39A1-48DC-A75D-2914E4B1335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E18EB-955E-4D1A-9BA3-D6CBA9AED0B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8A191-635F-49D7-9AB2-5030075CB2CA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DD7B2F-BD66-4E11-9C3D-BB76A1CE13D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0C998-30AC-4AFD-A757-CB3D917D72A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5EE09-4352-48F6-8795-5FE4C806B5B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E54B4-AA13-4B29-8381-0B2ADDBF202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E145A-BC8C-47CD-8355-8AB4290C779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75DDB-5C3D-4EF2-9330-11FC676DB83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E56E1-F846-4453-99C4-E2C0ED2800E6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0956-222B-4CEA-AB17-4ED55D96672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28651-CEDC-4EC8-A3C5-F294DF5A0CC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539E5-339C-42CD-8ECD-1BD3AC6BE482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5ABF8-7186-4D3A-B602-54ED71DD24F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08376-7E4A-446E-B7B4-FCFA785C523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5EED5-8084-4C24-9CA2-D2117D13123D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7B649-C063-4E45-BECA-031EAC3A3D3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68914-41BB-482F-A248-E228F47E98C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9BE3-FA65-42E9-B178-BA5874D4448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B0E45-87D8-4371-A7AF-5F6DB3166327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F0977-05B9-491A-9759-DE05FB6AE0F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7842B-546F-4A12-8B88-F59A4800F87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97BD2-C793-4DAD-971A-AB56AC2CEA8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0A7D2-81E2-4FD7-AB49-DC3BA3A238F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7A30F-A1F0-493B-9091-9FC24436E95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EB1-A524-4A34-BA96-7BA1878EF80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153E5B-ECF4-47A6-A722-10FA2799E4A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98868-7326-4280-828E-A40B0C8556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CB7B-9E81-443B-839C-0F2CC27208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F7939-B79C-4DB6-9DB4-BEE2A88FFE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79848-3F4E-47DC-AECB-77940E35B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C684C-5343-4C52-A934-8C0BC5921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68A5D-B8B0-4579-96BC-3EFB7F5FB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39D7F-4234-477F-8B33-0D3CE0F0C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CE455-9227-4FE8-BDAC-A9B2D6B3F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E8FB9-943F-432D-930F-E3B00742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44EFD-D0AE-421A-97A0-66FD4715D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92080-B47A-436C-94C5-0231A2346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1DE1-AB1A-4484-ABF9-4DF11064E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E40104-7AD5-4646-960E-6BD67ACF690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  <a:ea typeface="바탕"/>
              </a:rPr>
              <a:t>ΑΙΜΟΣΦΑΙΡΙΝΟΠΑΘΕ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3200" spc="-1" strike="noStrike">
              <a:solidFill>
                <a:srgbClr val="898989"/>
              </a:solidFill>
              <a:latin typeface="Calibri"/>
              <a:ea typeface="바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200" spc="-1" strike="noStrike">
                <a:solidFill>
                  <a:srgbClr val="b024a6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6840" y="1341000"/>
            <a:ext cx="8458200" cy="52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β-ΜΑ αποτελούν μια ομάδα κληρονομικών νοσημάτων που οφείλονται σε ελαττωμένη σύνθεση της β αλυσίδας, λόγω μεταλλάξεων του β γονιδίου (στο βραχύ σκέλος  του χρωμοσώματος 11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αυτές έχουν ως συνέπεια τη μειωμένη παραγωγή β-αλυσίδων, με αποτέλεσμα   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η περίσσεια των α-αλυσίδω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να σχηματίζει τετραμερή με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σφαιρίνες δ ή γ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σχηματίζοντας αντίστοιχα τις αιμοσφαιρίνε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Α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F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Η σοβαρότητα της νόσου εξαρτάται από τη φύση της μετάλλαξης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533520" y="121932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γενετικές διαταραχές παρουσιάζουν μεγάλη ετερογένεια. Έχουν καταγραφεί περίπου 35 μεταλλάξεις στο β γονίδιο (11 οι συχνότερε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μεταλλάξει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μειώνου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 σύνθεση τω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 αλυσίδων αιμοσφαιρίνης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βήτα συν) ΜΑ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νώ αυτές οι οποίες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καταργούν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ύνθεσή του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βήτα μηδέν) ΜΑ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Κάποιες μεταλλάξεις που </a:t>
            </a:r>
            <a:r>
              <a:rPr b="1" lang="el-GR" sz="2800" spc="-1" strike="noStrike" u="sng">
                <a:solidFill>
                  <a:srgbClr val="002060"/>
                </a:solidFill>
                <a:uFillTx/>
                <a:latin typeface="Calibri"/>
              </a:rPr>
              <a:t>επιτρέπουν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σε σημαντικό βαθμό τη σύνθεσ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των β-αλυσίδων είναι γνωστές ως </a:t>
            </a: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μεταλλάξεις β</a:t>
            </a:r>
            <a:r>
              <a:rPr b="1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TextBox 1"/>
          <p:cNvSpPr/>
          <p:nvPr/>
        </p:nvSpPr>
        <p:spPr>
          <a:xfrm>
            <a:off x="2209680" y="380880"/>
            <a:ext cx="5181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ΓΕΝΕΤΙΚΕΣ ΔΙΑΤΑΡΑΧΕ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380520" y="1143000"/>
            <a:ext cx="8610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Οι περισσότερες μεταλλάξεις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0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και β</a:t>
            </a:r>
            <a:r>
              <a:rPr b="1" lang="el-GR" sz="2800" spc="-1" strike="noStrike" baseline="30000">
                <a:solidFill>
                  <a:srgbClr val="002060"/>
                </a:solidFill>
                <a:latin typeface="Calibri"/>
              </a:rPr>
              <a:t>+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έχουν επίπτωση στον αιματολογικό φαινότυπο των φορέων και προκαλούν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: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RBC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(αύξηση αριθμού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V (μείωση μέσου όγκου ερυθρών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↓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MCH (↓ μέσης ποσότητας 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Hb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ανά ερυθροκύτταρο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↑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(Hb A</a:t>
            </a:r>
            <a:r>
              <a:rPr b="1" lang="el-GR" sz="2800" spc="-1" strike="noStrike" baseline="-25000">
                <a:solidFill>
                  <a:srgbClr val="002060"/>
                </a:solidFill>
                <a:latin typeface="Calibri"/>
              </a:rPr>
              <a:t>2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) συνήθως μεταξύ 4-6%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Παρ’ όλα αυτά υπάρχουν εξαιρέσεις με φυσιολογικό ή διαφορετικό φαινότυπο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3 - TextBox"/>
          <p:cNvSpPr/>
          <p:nvPr/>
        </p:nvSpPr>
        <p:spPr>
          <a:xfrm>
            <a:off x="838080" y="304920"/>
            <a:ext cx="7925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ΤΩΣΕΙΣ ΣΤΟΝ ΦΑΙΝΟΤΥΠ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ΟΡΦΕΣ β-ΜΕΣΟΓΕΙΑΚΗΣ ΑΝ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228600" y="1294920"/>
            <a:ext cx="876312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μόζυγη ή Μείζων Θαλασσαιμία  (ή ν.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Coole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buClr>
                <a:srgbClr val="1f497d"/>
              </a:buClr>
              <a:buFont typeface="Calibri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β-Θαλασσαιμία (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3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λάσσον (ετερόζυγη με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β-Θαλασσαιμία (ή «στίγμα»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4.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ιωπηλή β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η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ροσοχή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ίναι η φυσιολογική β-αλυσίδα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88520" indent="-488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σιωπηλή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ια μορφή χωρίς κλινικές εκδηλώ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τά τον 3ο-6ο μήνα το παιδί εμφανίζε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Έντονη ωχρότητα  (λόγω αναιμ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Λεμονοειδή απόχρωση (λόγω ίκτερ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ίπεται σε ανάπτυξη (λόγω ιστικής υποξί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 ζωή των ασθενών εξαρτάται άμεσα από τη μετάγγιση αίματος , ήδη από την πρώιμη  παιδική ηλικ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3 - TextBox"/>
          <p:cNvSpPr/>
          <p:nvPr/>
        </p:nvSpPr>
        <p:spPr>
          <a:xfrm>
            <a:off x="152280" y="228600"/>
            <a:ext cx="8763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ΟΜΟΖΥΓΗ β-ΜΕΣ. ΑΝΑΙΜΙ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Παθοφυσιολογία των κλινικών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κδηλώσεων στη β-Μεσ.Αν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έλλειψη ή η μειωμένη παραγωγή  β-αλυσίδων συνοδεύεται από υπερπαραγωγή  γ-αλυσίδων και  δ-αλυσίδ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 α-αλυσίδες που περισσεύουν σχηματίζουν τετραμερή ( α4 ) που κατακρημνίζονται και προκαλούν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ο θάνατο των ερυθροβλαστών εντός του μυελού (ενδομυελική καταστροφ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ρόωρη φαγοκυττάρωση των ερυθροκυττάρων στο σπλήνα (εξαγγειακή αιμόλυση)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04920" y="761760"/>
            <a:ext cx="8610480" cy="609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. Η μη αποτελεσματ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και η ελαττωμένη επιβίωση των ερυθροκυττάρων οδηγούν σε</a:t>
            </a:r>
            <a:r>
              <a:rPr b="0" lang="en-US" sz="22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Χρόνια Αιμολυτική Αναιμ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Ίκτερο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χή εμφάνιση Χολολιθίασης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 Αναιμία → Χρόνια Ιστική  Υποξία → Υπολειπόμενη σωματική  ανάπτυξη του παιδιού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Αυξημένα επίπεδα σιδήρου και κίνδυνος εναπόθεσή του σε καρδιά και ήπαρ (διόγκωση ήπατο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. Η αυξημένη ενδο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οδηγεί  σ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παραμόρφωση των οστών, ιδιαίτερα κρανίου-προσώπου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 u="sng">
                <a:solidFill>
                  <a:srgbClr val="1f497d"/>
                </a:solidFill>
                <a:uFillTx/>
                <a:latin typeface="Calibri"/>
              </a:rPr>
              <a:t>ΙΙΙ. Η εξωμυελική ερυθροποίηση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συνεπάγεται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Ηπατομεγαλία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Υπερσπληνισμό    → Αναιμία(επιδείνωση της αναιμία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θρομβοπενία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                                              → </a:t>
            </a:r>
            <a:r>
              <a:rPr b="0" lang="el-GR" sz="2200" spc="-1" strike="noStrike">
                <a:solidFill>
                  <a:srgbClr val="1f497d"/>
                </a:solidFill>
                <a:latin typeface="Calibri"/>
              </a:rPr>
              <a:t>λευκοπενία (ευαισθησία σε λοιμώξεις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 u="sng">
                <a:solidFill>
                  <a:srgbClr val="1f497d"/>
                </a:solidFill>
                <a:uFillTx/>
                <a:latin typeface="Calibri"/>
              </a:rPr>
              <a:t>I</a:t>
            </a:r>
            <a:r>
              <a:rPr b="1" lang="en-US" sz="2000" spc="-1" strike="noStrike" u="sng">
                <a:solidFill>
                  <a:srgbClr val="1f497d"/>
                </a:solidFill>
                <a:uFillTx/>
                <a:latin typeface="Calibri"/>
              </a:rPr>
              <a:t>V. </a:t>
            </a:r>
            <a:r>
              <a:rPr b="1" lang="el-GR" sz="2000" spc="-1" strike="noStrike" u="sng">
                <a:solidFill>
                  <a:srgbClr val="1f497d"/>
                </a:solidFill>
                <a:uFillTx/>
                <a:latin typeface="Calibri"/>
              </a:rPr>
              <a:t>Οι πολλές μεταγγίσεις </a:t>
            </a:r>
            <a:r>
              <a:rPr b="0" lang="el-GR" sz="2000" spc="-1" strike="noStrike">
                <a:solidFill>
                  <a:srgbClr val="1f497d"/>
                </a:solidFill>
                <a:latin typeface="Calibri"/>
              </a:rPr>
              <a:t>οδηγούν σε πολλές επιπλοκές: Αιμοσιδήρωση με κίνδυνο καρδιακής ανεπάρκειας κλπ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900" spc="-1" strike="noStrike">
                <a:solidFill>
                  <a:srgbClr val="ff0000"/>
                </a:solidFill>
                <a:latin typeface="Calibri"/>
              </a:rPr>
              <a:t>Οι ασθενείς χρειάζονται πολλές μεταγγίσεις και αποσιδήρωση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76320"/>
            <a:ext cx="8229600" cy="715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πλοκές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6840" y="685440"/>
            <a:ext cx="84582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φείλονται  στις συνεχείς μεταγγίσεις 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υ οδηγούν σε υπερφόρτιση των ιστών με σίδηρο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ολειπόμενη σωματική ανάπτυξη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ρμονικές επιπλοκέ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Διαταραχές μεταβολισμού γλυκόζ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υοκαρδιοπάθε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Ηπατική ίνω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ρόνια Αιμόλυ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Λοιμώξει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Θρομβωτικά Επεισόδι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Οστεοπεν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1f497d"/>
                </a:solidFill>
                <a:latin typeface="Calibri"/>
              </a:rPr>
              <a:t>Νεφρική δυσλειτουργί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spcBef>
                <a:spcPts val="624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228600" y="129492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ΓΕΝΙΚΗ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οβαρή Υπόχρωμη Μικροκυτταρική Αναιμία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Μεγάλη πτώση Η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b, MCV,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MCH, MCHC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υξημένα Δικτυοερυθροκύτταρα στο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Οι αναλυτές καταγράφουν τα ερυθρά ως αιμοπετάλια (πλασματική αύξηση αιμοπεταλίων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Λευκά και αιμοπετάλια ελαφρώς αυξημέν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ΕΠΙΧΡΙΣΜΑ ΑΙΜΑΤΟ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οικολοκυττάρωση, ανισοκυττάρωση,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Παρουσία ερυθροβλαστών στο περιφερικό αίμ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ργαστηριαρά Ευρήματ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228240" y="914040"/>
            <a:ext cx="89154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ΜΥΕΛΟΣ ΟΣΤΩΝ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Υπερπλασία ερυθρής σειράς με βασεόφιλη στίξ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σιδήρου στο μυελό (χρώση μυελού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ΚΛΑΣΜΑΤΑ ΑΙΜΟΣΦΑΙΡΙΝΗΣ(Με ηλεκροφόρηση ή </a:t>
            </a:r>
            <a:r>
              <a:rPr b="0" lang="en-US" sz="2500" spc="-1" strike="noStrike">
                <a:solidFill>
                  <a:srgbClr val="ff0000"/>
                </a:solidFill>
                <a:latin typeface="Calibri"/>
              </a:rPr>
              <a:t>HPLC</a:t>
            </a: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: Απούσα ή μειω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F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ιμοσφαιρίνη Α2: Αυξημένη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ff0000"/>
                </a:solidFill>
                <a:latin typeface="Calibri"/>
              </a:rPr>
              <a:t>ΒΙΟΧΗΜΙΚΑ ΕΥΡΗΜΑΤΑ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LDH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Επί χολολιθίασης: Αύξηση αλκαλικής φωσφατάσης και γ-</a:t>
            </a:r>
            <a:r>
              <a:rPr b="0" lang="en-US" sz="2500" spc="-1" strike="noStrike">
                <a:solidFill>
                  <a:srgbClr val="1f497d"/>
                </a:solidFill>
                <a:latin typeface="Calibri"/>
              </a:rPr>
              <a:t>G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500" spc="-1" strike="noStrike">
                <a:solidFill>
                  <a:srgbClr val="1f497d"/>
                </a:solidFill>
                <a:latin typeface="Calibri"/>
              </a:rPr>
              <a:t>Σε ηπατική ανεπάρκεια: Μείωση χοληστε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685800"/>
            <a:ext cx="8610480" cy="594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51444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                 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ΙΜΟΣΦΑΙΡΙΝΟΠΑΘΕΙΕΣ</a:t>
            </a:r>
            <a:br>
              <a:rPr sz="1800"/>
            </a:br>
            <a:br>
              <a:rPr sz="18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κληρονομικές διαταραχές της σύνθεσης της αιμοσφαιρίνης, που οφείλονται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γονιδιακά αίτια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Αποτελούν μία από τις συχνότερες γενετικές διαταραχές  του ανθρώπου. </a:t>
            </a:r>
            <a:br>
              <a:rPr sz="2600"/>
            </a:b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Διαιρούνται σε δύο κατηγορίε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: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σ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Θαλασσαιμίες)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Ι. Αυτές που οδηγούν σε </a:t>
            </a:r>
            <a:r>
              <a:rPr b="1" lang="el-GR" sz="2600" spc="-1" strike="noStrike" u="sng">
                <a:solidFill>
                  <a:srgbClr val="002060"/>
                </a:solidFill>
                <a:uFillTx/>
                <a:latin typeface="Calibri"/>
              </a:rPr>
              <a:t>ποιοτική διαταραχή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</a:t>
            </a:r>
            <a:br>
              <a:rPr sz="2600"/>
            </a:b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     δομής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της αιμοσφαιρίνης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(Αιμοσφαιρινοπάθειες)</a:t>
            </a:r>
            <a:br>
              <a:rPr sz="26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εραπε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228240" y="159984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γγίσεις αίματος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Αποσιδήρωση (με φάρμακ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υμπτωματική Αγωγή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Σπληνεκτομή (ενδεχομένως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Μεταμόσχευση του μυελού των οστών (μεταμόσχευση αρχέγονων αιμοποιητικών κυττάρων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75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Γονιδιακή θεραπεία (αντικατάσταση παθολογικού γονιδίου - Διαφαίνεται πραγματοποιήσιμη στο μέλλον – ίσως σε 5 χρόνια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ΑΜΕΣΗ β-ΘΑΛΑΣΣΑΙΜΙ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τά κανόνα, ετερόζυγη με β</a:t>
            </a:r>
            <a:r>
              <a:rPr b="0" lang="el-GR" sz="2800" spc="-1" strike="noStrike" baseline="30000">
                <a:solidFill>
                  <a:srgbClr val="1f497d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ο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ή 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8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νδιάμεση κλινική κατάσταση μεταξύ ετερόζυγης –μείζονος Μεσ. Αναιμία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έτρ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απαιτείται μετάγγιση αίματο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ακρά επιβί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νδιάμεση β-θαλασσαιμία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457200" y="1371600"/>
          <a:ext cx="8229600" cy="5178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                            </a:t>
                      </a: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γαστηριακά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τες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 MCH, MCHC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9147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υρήματα ετερόζυγης β-ΜΑ αλλά σ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ντονότερο βαθμό με συχνή εμφάνιση και εμπύρηνων ερυθρώ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85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7-10 g/d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Έντονη ερυθροβλαστική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δραστηριότητ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12265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Τα ευρήματα εξαρτώνται από τ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ίδος της γενετικής διαταραχή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Γενικά, αυξημένη εμβρυϊκή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 και αυξημένη Α2 αιμοσφαρίνη (</a:t>
                      </a: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</a:t>
                      </a:r>
                      <a:r>
                        <a:rPr b="0" lang="en-US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2</a:t>
                      </a:r>
                      <a:r>
                        <a:rPr b="0" lang="el-GR" sz="1800" spc="-1" strike="noStrike" baseline="-25000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5850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 </a:t>
                      </a:r>
                      <a:r>
                        <a:rPr b="0" lang="el-GR" sz="18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ντιμετώπιση Ενδιάμεσης β-θαλασσαιμία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Σοβαρέ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Βαριά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στικές παραμορφώσεις        συνεχή ή περιστασιακή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ολειπόμενη ανάπτυξη                         μετάγγιση αίματ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Ηπιότερες καταστάσει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αρακολούθη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μπτωματική αγωγ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Right Brace 5"/>
          <p:cNvSpPr/>
          <p:nvPr/>
        </p:nvSpPr>
        <p:spPr>
          <a:xfrm>
            <a:off x="4648320" y="2451240"/>
            <a:ext cx="155520" cy="1282680"/>
          </a:xfrm>
          <a:custGeom>
            <a:avLst/>
            <a:gdLst>
              <a:gd name="textAreaLeft" fmla="*/ 0 w 155520"/>
              <a:gd name="textAreaRight" fmla="*/ 56160 w 155520"/>
              <a:gd name="textAreaTop" fmla="*/ 3960 h 1282680"/>
              <a:gd name="textAreaBottom" fmla="*/ 1278720 h 1282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09"/>
                  <a:pt x="10800" y="218"/>
                </a:cubicBezTo>
                <a:lnTo>
                  <a:pt x="10800" y="10582"/>
                </a:lnTo>
                <a:cubicBezTo>
                  <a:pt x="10800" y="10691"/>
                  <a:pt x="16200" y="10800"/>
                  <a:pt x="21600" y="10800"/>
                </a:cubicBezTo>
                <a:cubicBezTo>
                  <a:pt x="16200" y="10800"/>
                  <a:pt x="10800" y="10909"/>
                  <a:pt x="10800" y="11018"/>
                </a:cubicBezTo>
                <a:lnTo>
                  <a:pt x="10800" y="21382"/>
                </a:lnTo>
                <a:cubicBezTo>
                  <a:pt x="10800" y="2149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Έλασσον ή Ετέροζυγη β-θαλασσαιμ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228240" y="1294920"/>
            <a:ext cx="84582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Ετεροζυγωτία φυσιολογικής και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1" lang="el-GR" sz="2700" spc="-1" strike="noStrike">
                <a:solidFill>
                  <a:srgbClr val="1f497d"/>
                </a:solidFill>
                <a:latin typeface="Calibri"/>
              </a:rPr>
              <a:t>παθολογικής</a:t>
            </a:r>
            <a:r>
              <a:rPr b="0" lang="el-GR" sz="2700" spc="-1" strike="noStrike">
                <a:solidFill>
                  <a:srgbClr val="1f497d"/>
                </a:solidFill>
                <a:latin typeface="Calibri"/>
              </a:rPr>
              <a:t> β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Γονότυπος: 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+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 ή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ο</a:t>
            </a:r>
            <a:r>
              <a:rPr b="0" lang="el-GR" sz="2400" spc="-1" strike="noStrike">
                <a:solidFill>
                  <a:srgbClr val="ff0000"/>
                </a:solidFill>
                <a:latin typeface="Calibri"/>
              </a:rPr>
              <a:t>/β</a:t>
            </a:r>
            <a:r>
              <a:rPr b="0" lang="el-GR" sz="2400" spc="-1" strike="noStrike" baseline="30000">
                <a:solidFill>
                  <a:srgbClr val="ff0000"/>
                </a:solidFill>
                <a:latin typeface="Calibri"/>
              </a:rPr>
              <a:t>Ν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1f497d"/>
                </a:solidFill>
                <a:latin typeface="Calibri"/>
              </a:rPr>
              <a:t>Φορείς της νόσου </a:t>
            </a: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f497d"/>
                </a:solidFill>
                <a:latin typeface="Calibri"/>
              </a:rPr>
              <a:t>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Ελλάδα 7,5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Κύπρος,  Σαρδηνία 15-17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r>
              <a:rPr b="0" lang="el-GR" sz="2400" spc="-1" strike="noStrike">
                <a:solidFill>
                  <a:srgbClr val="1f497d"/>
                </a:solidFill>
                <a:latin typeface="Calibri"/>
              </a:rPr>
              <a:t>Μαύρη φυλή  0,5-1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715000" y="1828800"/>
            <a:ext cx="30481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ή Εικόν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30492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ά άτο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ύκολα αναπτύσσου αναιμία μετά από σιδηροπενία (κύηση) ή λοίμωξ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ελαφράς ετερόζυγης (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+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) Μεσ.Αν.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συμπτωματικοί,  με ελαφρά μικ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Ασθενείς με γονίδιο  ετερόζυγης β</a:t>
            </a:r>
            <a:r>
              <a:rPr b="0" lang="el-GR" sz="2800" spc="-1" strike="noStrike" u="sng" baseline="30000">
                <a:solidFill>
                  <a:srgbClr val="1f497d"/>
                </a:solidFill>
                <a:uFillTx/>
                <a:latin typeface="Calibri"/>
              </a:rPr>
              <a:t>0</a:t>
            </a:r>
            <a:r>
              <a:rPr b="0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  Μεσ.Αν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πορεί να έχουν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ήπια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κτυοερυθροκυττάρ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α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ικ</a:t>
            </a:r>
            <a:r>
              <a:rPr b="1" lang="el-GR" sz="2800" spc="-1" strike="noStrike">
                <a:solidFill>
                  <a:srgbClr val="009999"/>
                </a:solidFill>
                <a:latin typeface="Arial"/>
              </a:rPr>
              <a:t>ά</a:t>
            </a: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 ευρήματα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τερόζυγος β-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533520" y="1143000"/>
          <a:ext cx="8229600" cy="5506920"/>
        </p:xfrm>
        <a:graphic>
          <a:graphicData uri="http://schemas.openxmlformats.org/drawingml/2006/table">
            <a:tbl>
              <a:tblPr/>
              <a:tblGrid>
                <a:gridCol w="3352680"/>
                <a:gridCol w="4876920"/>
              </a:tblGrid>
              <a:tr h="91440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ρυθροκυτταρικοί δείκτες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MCV,MCH,MCHC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ειωμένοι           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RDW: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κ.φ.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 w="5760">
                      <a:solidFill>
                        <a:srgbClr val="f79646"/>
                      </a:solidFill>
                    </a:lnB>
                    <a:noFill/>
                  </a:tcPr>
                </a:tc>
              </a:tr>
              <a:tr h="1300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χρισμα περιφερικού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ίματ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Υποχρωμία, ανισοκυττάρωση, ποικιλοκυττάρωση, μικροκυττάρωση,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ασεόφιλη στίξ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f79646"/>
                      </a:solidFill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Επίπεδα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Συνήθως φυσιολογικά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&gt;10gr/d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76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RBC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(αριθμός ερυθρώ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466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Μυελό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Ήπια ερυθροβλαστική αντίδραση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Ηλεκτροφόρησ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η </a:t>
                      </a:r>
                      <a:r>
                        <a:rPr b="0" lang="en-US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A2  (3,5%-5,5%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HbF κ.φ. ή αυξημμένη (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Arial"/>
                        </a:rPr>
                        <a:t>σε 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β/β</a:t>
                      </a:r>
                      <a:r>
                        <a:rPr b="0" lang="el-GR" sz="2400" spc="-1" strike="noStrike" baseline="30000">
                          <a:solidFill>
                            <a:srgbClr val="1f497d"/>
                          </a:solidFill>
                          <a:latin typeface="Calibri"/>
                        </a:rPr>
                        <a:t>o</a:t>
                      </a: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 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79646">
                        <a:alpha val="20000"/>
                      </a:srgbClr>
                    </a:solidFill>
                  </a:tcPr>
                </a:tc>
              </a:tr>
              <a:tr h="8413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Λόγος α/β αλυσίδων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l-GR" sz="2400" spc="-1" strike="noStrike">
                          <a:solidFill>
                            <a:srgbClr val="1f497d"/>
                          </a:solidFill>
                          <a:latin typeface="Calibri"/>
                        </a:rPr>
                        <a:t>Αυξημένος (υπεροχή των α-αλύσων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ντιμετώπιση ετερόζυγης β-Μεσ.Αν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914400" y="1676520"/>
            <a:ext cx="7848720" cy="44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ιάγνω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Οικογενειακός προγραμματισμό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Όχι άσκοπη χορήγηση σιδήρου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υνιστάται δια βίου χορήγηση 0,5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g /di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ΔΙΑΚΡΙΣΗ ΑΙΜΟΣΦΑΙΡΙΝΟΠΑΘΕΙΩΝ</a:t>
            </a:r>
            <a:br>
              <a:rPr sz="1800"/>
            </a:br>
            <a:br>
              <a:rPr sz="18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04560" y="1828800"/>
            <a:ext cx="4267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ffff"/>
                </a:solidFill>
                <a:latin typeface="Calibri"/>
              </a:rPr>
              <a:t>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Μία από τις πολυπεπτιδικές αλυσίδες της αιμοσφαιρίνης παράγεται σε χαμηλότερο ποσοστό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-θαλασσαιμί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ληρονομική παραμονή της εμβρυϊκής αιμοσφαιρίνης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0" y="1752480"/>
            <a:ext cx="4191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49"/>
              </a:spcBef>
              <a:buClr>
                <a:srgbClr val="ff0000"/>
              </a:buClr>
              <a:buFont typeface="Calibri"/>
              <a:buAutoNum type="romanU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Αιμοσφαιρινοπάθειε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    </a:t>
            </a:r>
            <a:r>
              <a:rPr b="1" lang="el-GR" sz="2500" spc="-1" strike="noStrike">
                <a:solidFill>
                  <a:srgbClr val="002060"/>
                </a:solidFill>
                <a:latin typeface="Calibri"/>
              </a:rPr>
              <a:t>Παραγωγή ανώμαλης αιμοσφαιρίνης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S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ίναι η πιο συχνή ανώμαλ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D        σπανιότε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HbO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ight Brace 5"/>
          <p:cNvSpPr/>
          <p:nvPr/>
        </p:nvSpPr>
        <p:spPr>
          <a:xfrm>
            <a:off x="5867280" y="4191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5760 h 1447560"/>
              <a:gd name="textAreaBottom" fmla="*/ 144180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42"/>
                  <a:pt x="10800" y="284"/>
                </a:cubicBezTo>
                <a:lnTo>
                  <a:pt x="10800" y="10516"/>
                </a:lnTo>
                <a:cubicBezTo>
                  <a:pt x="10800" y="10658"/>
                  <a:pt x="16200" y="10800"/>
                  <a:pt x="21600" y="10800"/>
                </a:cubicBezTo>
                <a:cubicBezTo>
                  <a:pt x="16200" y="10800"/>
                  <a:pt x="10800" y="10942"/>
                  <a:pt x="10800" y="11084"/>
                </a:cubicBezTo>
                <a:lnTo>
                  <a:pt x="10800" y="21316"/>
                </a:lnTo>
                <a:cubicBezTo>
                  <a:pt x="10800" y="2145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57160" indent="-857160" algn="ctr">
              <a:buClr>
                <a:srgbClr val="009999"/>
              </a:buClr>
              <a:buFont typeface="Calibri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400" spc="-1" strike="noStrike">
                <a:solidFill>
                  <a:srgbClr val="009999"/>
                </a:solidFill>
                <a:latin typeface="Calibri"/>
                <a:ea typeface="바탕"/>
              </a:rPr>
              <a:t>ΘΑΛΑΣΣΑΙΜΙΕΣ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88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ΘΑΛΑΣΣΑΙΜΙΕΣ - ΟΡΙΣΜΟ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380880" y="1600200"/>
            <a:ext cx="8305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Οι θαλασσαιμίες αποτελούν ετερογενή ομάδα κληρονομικών νοσημάτων που οφείλονται σε γονιδιακές βλάβες των πεπτιδικών αλυσίδων της αιμοσφαιρίνης, </a:t>
            </a:r>
            <a:r>
              <a:rPr b="1" lang="en-US" sz="2600" spc="-1" strike="noStrike">
                <a:solidFill>
                  <a:srgbClr val="002060"/>
                </a:solidFill>
                <a:latin typeface="Calibri"/>
              </a:rPr>
              <a:t>o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ι οποίες οδηγούν σε ελάττωση μέχρι πλήρη αναστολή της παραγωγής μιας ή περισσότερων από πεπτιδικές αλύσους της αιμοσφαιρίνης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spcAft>
                <a:spcPts val="1199"/>
              </a:spcAft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Είναι αποτέλεσμα μεταλάξεων που οδηγούν σε επιλεκτική </a:t>
            </a: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ανεπάρκεια σύνθεσης των α- ή β-αλύσων</a:t>
            </a: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002060"/>
                </a:solidFill>
                <a:latin typeface="Calibri"/>
              </a:rPr>
              <a:t>Κληρονομούνται με τον σωματικό υπολειπόμενο χαρακτήρ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380520" y="121896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ff0000"/>
                </a:solidFill>
                <a:latin typeface="Calibri"/>
              </a:rPr>
              <a:t>Η μεσογειακή αναιμία (ΜΑ) ή θαλασσαιμία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είναι μία κληρονομική νόσος, κυρίως στην περιοχή της Μεσογεί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 Μεσογειακή αναιμί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,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 η γονιδιακή βλάβ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(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έλλειψη σε γονίδιο ή μετάλλαξη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)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, έχει ως αποτέλεσμα τη μειωμένη σύνθεση ή ακόμα και τη μη σύνθεση μιας εκ των σφαιρινών α και β, οι οποίες σχηματίζουν την αιμοσφαιρίνη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Αυτό οδηγεί σε σύνθεση μη φυσιολογικών μορίων αιμοσφαιρίνης και έτσι προκαλείται αναιμία, το χαρακτηριστικότερο γνώρισμα της νόσου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3 - TextBox"/>
          <p:cNvSpPr/>
          <p:nvPr/>
        </p:nvSpPr>
        <p:spPr>
          <a:xfrm>
            <a:off x="1752480" y="457200"/>
            <a:ext cx="6400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ΜΕΣΟΓΕΙΑΚΗ ΑΝΑΙΜΙ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Επιδημιολογί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Ιδιαίτερα συχνή στους λαούς της Μεσογείου, Άραβες και Ασιάτες. Στην Κύπρο 16%, στην Ασία 3-8%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</a:t>
            </a:r>
            <a:r>
              <a:rPr b="1" lang="en-US" sz="28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&gt;8% του πληθυσμού είναι φορέας κάποιου   θαλασσαιμικού νοσήματος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2060"/>
                </a:solidFill>
                <a:latin typeface="Calibri"/>
              </a:rPr>
              <a:t>Στην Ελλάδα ~ 3,500 άτομα πάσχουν από Μ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0" y="1752480"/>
            <a:ext cx="91440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Ανάλογα  σε ποια αλυσίδα εκδηλώνεται η γενετική βλάβη: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 α-Μεσογειακή Αναιμία ή </a:t>
            </a:r>
            <a:br>
              <a:rPr sz="28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β-Μεσογειακή Αναιμία,</a:t>
            </a:r>
            <a:br>
              <a:rPr sz="2400"/>
            </a:br>
            <a:r>
              <a:rPr b="1" lang="el-GR" sz="2800" spc="-1" strike="noStrike">
                <a:solidFill>
                  <a:srgbClr val="1f497d"/>
                </a:solidFill>
                <a:latin typeface="Calibri"/>
              </a:rPr>
              <a:t>καθώς και διάφοροι άλλοι συνδυασμοί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6 - TextBox"/>
          <p:cNvSpPr/>
          <p:nvPr/>
        </p:nvSpPr>
        <p:spPr>
          <a:xfrm>
            <a:off x="380880" y="45720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Arial"/>
                <a:ea typeface="Arial"/>
              </a:rPr>
              <a:t>ΔΙΑΚΡΙΣΗ ΜΕΣΟΓΕΙΑΚΗΣ ΑΝΑΙΜΙΑ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ΜΕΣΟΓΕΙΑΚΗ ΑΝΑΙΜΙΑ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ή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β-ΘΑΛΑΣΣΑΙΜΙΑ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29:15Z</dcterms:modified>
  <cp:revision>737</cp:revision>
  <dc:subject/>
  <dc:title>Slide 1</dc:title>
</cp:coreProperties>
</file>